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4A40-3698-4622-B489-7E7C29FC6C9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7ABD-E421-48A0-B1B8-8CE6FC7C73F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B36F-893E-482A-B153-D7C542D073C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B5D6-C9FA-4ACF-935D-CC6FD03A358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E95D-7B38-4CC6-A19A-840426BB199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4EBD-CD35-4664-B882-41AFA88520B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1C6D-7EA8-4CF0-9E0A-C4E4DCC19A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3816-0646-409A-8D25-6A594C73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7B8B-C02F-4848-84FD-BFA3968E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3AA2-02B4-47D4-B6B2-01C1B9C8B0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E7D1-FDF5-4FA5-9074-08B225C3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19CFE-D611-49D5-AA3D-C885E726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F588-A330-4FDF-B426-1727C736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B836A-8449-4A6C-A415-2609F289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9E1E-01DC-4A7B-B1F5-91337A1B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234D-C98B-4F2B-893C-6D873A98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46D5D-13CB-4FED-BBE3-18D0AE33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27839-4F36-493D-8037-33E49190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EDF7-2B96-4AAA-B924-E3F002688F4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59767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科护理的基本技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564000" y="1773360"/>
            <a:ext cx="5065560" cy="45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45" y="10865"/>
                </a:moveTo>
                <a:lnTo>
                  <a:pt x="-341" y="5950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564000" y="1268280"/>
            <a:ext cx="4897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结束交谈可以为下一次交谈及建立治疗性护患关系打下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给予患者适当的安慰和鼓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简短的重复今天谈话的主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交谈结束后，护士要诚恳的对患者表示感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376200"/>
            <a:ext cx="770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护患沟通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3500280" y="397944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3487680" y="449100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1060560" y="1711440"/>
            <a:ext cx="2286000" cy="10666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士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079640" y="37591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患者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544920" y="1501920"/>
            <a:ext cx="838080" cy="30456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60840" y="1081080"/>
            <a:ext cx="2819520" cy="43020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做充分的准备工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562200" y="272556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586400" y="3084480"/>
            <a:ext cx="2793960" cy="39708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缺乏精神科专业知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560840" y="3759120"/>
            <a:ext cx="281952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患者有先天性缺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0" y="4614840"/>
            <a:ext cx="2808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精神障碍患者精神症状丰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3600360" y="2057400"/>
            <a:ext cx="860400" cy="10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" descr=""/>
          <p:cNvPicPr/>
          <p:nvPr/>
        </p:nvPicPr>
        <p:blipFill>
          <a:blip r:embed="rId2"/>
          <a:stretch/>
        </p:blipFill>
        <p:spPr>
          <a:xfrm>
            <a:off x="3633840" y="2419200"/>
            <a:ext cx="860400" cy="176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3562200" y="5857920"/>
            <a:ext cx="858960" cy="109440"/>
          </a:xfrm>
          <a:prstGeom prst="rect">
            <a:avLst/>
          </a:prstGeom>
          <a:ln w="0">
            <a:noFill/>
          </a:ln>
        </p:spPr>
      </p:pic>
      <p:sp>
        <p:nvSpPr>
          <p:cNvPr id="170" name="椭圆 8"/>
          <p:cNvSpPr/>
          <p:nvPr/>
        </p:nvSpPr>
        <p:spPr>
          <a:xfrm>
            <a:off x="1050840" y="5300640"/>
            <a:ext cx="2305080" cy="1224000"/>
          </a:xfrm>
          <a:prstGeom prst="ellips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文本框 10"/>
          <p:cNvSpPr/>
          <p:nvPr/>
        </p:nvSpPr>
        <p:spPr>
          <a:xfrm>
            <a:off x="1430280" y="5727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环境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4572000" y="5611680"/>
            <a:ext cx="2808360" cy="554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文本框 13"/>
          <p:cNvSpPr/>
          <p:nvPr/>
        </p:nvSpPr>
        <p:spPr>
          <a:xfrm>
            <a:off x="4627440" y="572760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1616"/>
                </a:solidFill>
                <a:latin typeface="Arial"/>
                <a:ea typeface="宋体"/>
              </a:rPr>
              <a:t>噪声、温度、光线、湿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586400" y="1754280"/>
            <a:ext cx="2793960" cy="43956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文本框 17"/>
          <p:cNvSpPr/>
          <p:nvPr/>
        </p:nvSpPr>
        <p:spPr>
          <a:xfrm>
            <a:off x="4627440" y="171144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很好的运用沟通技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4586400" y="2359080"/>
            <a:ext cx="2793960" cy="39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文本框 21"/>
          <p:cNvSpPr/>
          <p:nvPr/>
        </p:nvSpPr>
        <p:spPr>
          <a:xfrm>
            <a:off x="4586400" y="2471760"/>
            <a:ext cx="279396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护士自身问题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与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是精神科护理重要环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精神科护士必须掌握的基本技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4" descr="BD10621_"/>
          <p:cNvPicPr/>
          <p:nvPr/>
        </p:nvPicPr>
        <p:blipFill>
          <a:blip r:embed="rId1"/>
          <a:stretch/>
        </p:blipFill>
        <p:spPr>
          <a:xfrm>
            <a:off x="5508720" y="33256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2978280" y="2637000"/>
            <a:ext cx="3797280" cy="16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6920" y="1412640"/>
            <a:ext cx="81410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6657840" y="3716280"/>
            <a:ext cx="2230560" cy="24400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4203720" y="3328920"/>
            <a:ext cx="2073240" cy="2822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3"/>
          <a:stretch/>
        </p:blipFill>
        <p:spPr>
          <a:xfrm>
            <a:off x="4137120" y="1978200"/>
            <a:ext cx="3444840" cy="19382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6"/>
          <p:cNvSpPr/>
          <p:nvPr/>
        </p:nvSpPr>
        <p:spPr>
          <a:xfrm>
            <a:off x="4203720" y="220500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别这么懒，洗个澡，你都有味了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483920"/>
            <a:ext cx="8283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接评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和间接评估法两种方法共同使用，相互补充，在掌握病情观察方法的基础上，对病房中的全部患者做到心中有数，才能防患于未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412640"/>
            <a:ext cx="79963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目的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计划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客观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正五边形 1"/>
          <p:cNvSpPr/>
          <p:nvPr/>
        </p:nvSpPr>
        <p:spPr>
          <a:xfrm>
            <a:off x="4668840" y="2139840"/>
            <a:ext cx="3584520" cy="3745080"/>
          </a:xfrm>
          <a:prstGeom prst="pentagon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5W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o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 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n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at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r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How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最佳时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557360"/>
            <a:ext cx="79250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天交接班、巡视病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晚间护理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参加工娱治疗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探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499760"/>
            <a:ext cx="894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必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凡事“预则立，不预则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内容及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步骤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图片 4" descr=""/>
          <p:cNvPicPr/>
          <p:nvPr/>
        </p:nvPicPr>
        <p:blipFill>
          <a:blip r:embed="rId1"/>
          <a:stretch/>
        </p:blipFill>
        <p:spPr>
          <a:xfrm>
            <a:off x="4427640" y="3535200"/>
            <a:ext cx="2689200" cy="29750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5859360" y="2139840"/>
            <a:ext cx="3444840" cy="17557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7" descr=""/>
          <p:cNvPicPr/>
          <p:nvPr/>
        </p:nvPicPr>
        <p:blipFill>
          <a:blip r:embed="rId3"/>
          <a:stretch/>
        </p:blipFill>
        <p:spPr>
          <a:xfrm>
            <a:off x="6248520" y="2478240"/>
            <a:ext cx="3219480" cy="10126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"/>
          <p:cNvPicPr/>
          <p:nvPr/>
        </p:nvPicPr>
        <p:blipFill>
          <a:blip r:embed="rId4"/>
          <a:stretch/>
        </p:blipFill>
        <p:spPr>
          <a:xfrm>
            <a:off x="503280" y="3284640"/>
            <a:ext cx="414648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" descr=""/>
          <p:cNvPicPr/>
          <p:nvPr/>
        </p:nvPicPr>
        <p:blipFill>
          <a:blip r:embed="rId5"/>
          <a:stretch/>
        </p:blipFill>
        <p:spPr>
          <a:xfrm>
            <a:off x="993600" y="3484440"/>
            <a:ext cx="2945160" cy="7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1163520"/>
          <a:ext cx="9109080" cy="6400800"/>
        </p:xfrm>
        <a:graphic>
          <a:graphicData uri="http://schemas.openxmlformats.org/drawingml/2006/table">
            <a:tbl>
              <a:tblPr/>
              <a:tblGrid>
                <a:gridCol w="1116000"/>
                <a:gridCol w="647640"/>
                <a:gridCol w="7345440"/>
              </a:tblGrid>
              <a:tr h="4622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患者对疾病的理解和态度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依从性：□安心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安心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需要的帮助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rowSpan="4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精神症状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重点评估症状对患者的影响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幻 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命令性幻听（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</a:t>
                      </a:r>
                      <a:r>
                        <a:rPr b="0" lang="zh-CN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）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言语性幻听（□讽刺；□嘲笑；□威胁；□辱骂；□表扬；□评论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）；□幻视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幻觉内容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妄 想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被害；□关系；□嫉妒；□罪恶；□影响；□夸大；□被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洞悉；□钟情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情 绪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紧张；□焦虑；□恐惧；□易激惹；□高涨；□低落；□淡漠；□烦躁；□敌意；□逃避；□绝望；□平稳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意志行 为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兴奋；□怪异；□冲动；□自伤、自杀；□紊乱；□不合作；□违拗；□木僵；□活动增多；□活动减少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症状的应对方式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寻求帮助；□主动找人倾诉；□置之不理；□痛苦；□愤怒；□激动；□拒绝服药；□拒绝进食；□攻击他人；□自伤；□外走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药物反应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噎食、跌倒等风险及副作用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治疗依从性：□依从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依从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服药后的感受：□困倦；□头晕；□吞咽困难；□小便不畅；□便秘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合并症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生活自理情况：□自理；□部分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不能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9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心理社会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关注长期住院患者对于出院渴求及病耻感方面评估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目前住院的需求及迫切需要解决的问题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自己的疾病及治疗的下一步打算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于家人及周围人有什么期望及要求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残存社会功能：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交流；□自理；□学习□娱乐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12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要点及措施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防自杀；□防冲动；□防外走；□防跌倒；□防压疮；□防噎食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措施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2"/>
          <p:cNvSpPr/>
          <p:nvPr/>
        </p:nvSpPr>
        <p:spPr>
          <a:xfrm>
            <a:off x="2627280" y="29016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某家精神专科医院责任护士风险评估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病区：    床号：    姓名：        入院诊断：                  </a:t>
            </a:r>
            <a:r>
              <a:rPr b="0" lang="zh-CN" sz="1200" spc="-1" strike="noStrike">
                <a:solidFill>
                  <a:srgbClr val="ff0000"/>
                </a:solidFill>
                <a:latin typeface="楷体"/>
                <a:ea typeface="楷体"/>
              </a:rPr>
              <a:t>入院时间：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676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550800" cy="41050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4"/>
          <p:cNvSpPr/>
          <p:nvPr/>
        </p:nvSpPr>
        <p:spPr>
          <a:xfrm>
            <a:off x="4662360" y="1916280"/>
            <a:ext cx="24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护计划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5"/>
          <p:cNvSpPr/>
          <p:nvPr/>
        </p:nvSpPr>
        <p:spPr>
          <a:xfrm>
            <a:off x="4662360" y="251928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6"/>
          <p:cNvSpPr/>
          <p:nvPr/>
        </p:nvSpPr>
        <p:spPr>
          <a:xfrm>
            <a:off x="4633920" y="3287880"/>
            <a:ext cx="40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期间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7"/>
          <p:cNvSpPr/>
          <p:nvPr/>
        </p:nvSpPr>
        <p:spPr>
          <a:xfrm>
            <a:off x="4673520" y="40543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或出试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4673520" y="4815000"/>
            <a:ext cx="36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殊治疗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9"/>
          <p:cNvSpPr/>
          <p:nvPr/>
        </p:nvSpPr>
        <p:spPr>
          <a:xfrm>
            <a:off x="4673520" y="546732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32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精神障碍患者的沟通技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评估与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基础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组织与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15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16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23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24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0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31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32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3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9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40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1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6" name="AutoShape 53"/>
          <p:cNvSpPr/>
          <p:nvPr/>
        </p:nvSpPr>
        <p:spPr>
          <a:xfrm>
            <a:off x="3465360" y="164160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圆角矩形 54"/>
          <p:cNvSpPr/>
          <p:nvPr/>
        </p:nvSpPr>
        <p:spPr>
          <a:xfrm>
            <a:off x="4124160" y="1179360"/>
            <a:ext cx="4929480" cy="2554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腔卫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及毛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衣着、修饰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卫生宣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51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52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5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67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68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1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7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7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2" name="AutoShape 53"/>
          <p:cNvSpPr/>
          <p:nvPr/>
        </p:nvSpPr>
        <p:spPr>
          <a:xfrm>
            <a:off x="3279600" y="2538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前的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探视时食品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95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96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03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04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5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7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0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11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12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3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4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5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8" name="AutoShape 53"/>
          <p:cNvSpPr/>
          <p:nvPr/>
        </p:nvSpPr>
        <p:spPr>
          <a:xfrm>
            <a:off x="3425760" y="3402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圆角矩形 54"/>
          <p:cNvSpPr/>
          <p:nvPr/>
        </p:nvSpPr>
        <p:spPr>
          <a:xfrm>
            <a:off x="4075200" y="2048040"/>
            <a:ext cx="5068800" cy="2781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排合理的作息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良好的睡眠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，以防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障碍患者针对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32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2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0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33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8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9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0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3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6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7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8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0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1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4" name="AutoShape 53"/>
          <p:cNvSpPr/>
          <p:nvPr/>
        </p:nvSpPr>
        <p:spPr>
          <a:xfrm>
            <a:off x="2940120" y="4238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圆角矩形 54"/>
          <p:cNvSpPr/>
          <p:nvPr/>
        </p:nvSpPr>
        <p:spPr>
          <a:xfrm>
            <a:off x="3635280" y="2979720"/>
            <a:ext cx="5689800" cy="27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安全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病情做到心中有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病房安全管理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宣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与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2700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组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管理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617920"/>
          <a:ext cx="7920000" cy="3565440"/>
        </p:xfrm>
        <a:graphic>
          <a:graphicData uri="http://schemas.openxmlformats.org/drawingml/2006/table">
            <a:tbl>
              <a:tblPr/>
              <a:tblGrid>
                <a:gridCol w="4032000"/>
                <a:gridCol w="388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开放式管理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封闭式管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55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于抑郁症无自杀风险、神经症、病情稳定、待出院、有自知力能自己主动治疗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合于精神疾病急性期、无自知力、有自杀自伤、冲动倾向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建立完善的开放病房各项管理制度及规则 、加强健康教育，倡导人文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制定相关制度、密切观察病情变化、丰富患者住院生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79280" y="2133720"/>
          <a:ext cx="8785440" cy="457200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病情危重，随时需要进行抢救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严重的冲动、伤人、自杀及逃跑行为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中度木僵；严重的痴呆、抑郁、躁狂状态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意识障碍或伴有严重躯体并发症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入院第一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(1)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安全护理措施到位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2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密切观察患者病情和生命体征：体温、脉搏、呼吸、血压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测量一次；新入院患者每日测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并记录治疗过程中的各种副反应；密切观察有无自伤、自杀行为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正确执行医嘱，按时完成治疗和用药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患者生活上的照顾，每日晨晚间护理一次，保证患者口腔、头发、手足、皮肤、会阴及床单位的清洁。 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h 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 保证患者每日入量，根据病情严格记录出入量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，保持患者卧位舒适及功能位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给予卧床患者每周床上洗头一次，温水擦浴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~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日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每日泡脚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做到指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趾甲不长，无污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加强留置导管的护理，无导管污染及脱落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保持急救药品和抢救器材的良好功能状态，随时做好抢救准备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详细记录各项治疗护理措施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2133720"/>
          <a:ext cx="8785440" cy="393228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症状急性期；严重药物副反应；生活部分可以自理，但病情随时可能有变化；特殊治疗需观察病 情变化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A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有严防自杀自伤、冲动、走失倾向的患者；严重药物副反应的患者；严重躯体并发症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B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严防摔伤、约束的患者，病情波动较大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C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除上述情况以外的一级护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密切观察病情。将患者安置在护士易于观察的病室内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一次； 每日测量体温、脉搏、呼吸、血压一次，每月测量体重一次，并记录；观察治疗过程中的各种副反应；有无自伤、自杀倾向。 正确执行医嘱，按时完成治疗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或协助患者完成生活护理，每日晨晚间护理一次，保证口腔、头发、手足、皮肤、会阴及床单位的清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必要时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指导患者饮食，保证入量。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卧位舒适，指导患者进行功能锻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，做好心理援助和康复指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随时做好抢救准备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二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2133720"/>
          <a:ext cx="8785440" cy="286524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8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缓解期，生活能自理，轻度痴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内容 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每月测量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遵医嘱指导患者饮食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帮助或协助患者提高生活自理能力，保证患者卧位舒适，床单位整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协助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三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9280" y="2133720"/>
          <a:ext cx="8785440" cy="222552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恢复期，躯体症状缓解，生活能自理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，每月测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指导患者饮食。指导患者生活护理，保持床单位整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指导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圆角矩形 3"/>
          <p:cNvSpPr/>
          <p:nvPr/>
        </p:nvSpPr>
        <p:spPr>
          <a:xfrm>
            <a:off x="428760" y="1197000"/>
            <a:ext cx="8175600" cy="3960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无明显诱因出现担心害怕，怀疑有人监视他，不敢出门，不敢上班，在家中也觉得不安全。常独自发笑，有时自言自语。觉得有人在他耳边说话，威胁他和家人，经常跟周围人发生争吵，疑心重，总无故认为自己被人监视了。担心害怕，夜眠差，时睡时醒，患者曾因担心害怕而有过自杀的想法，同时觉得自己是被单位同事迫害，每天带刀子上班，被单位辞退，家人遂带患者住院治疗。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检查出患有高血压及糖尿病，现服药治疗，血压基本维持正常，血糖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左右。患者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睡眠差，食欲、大小便情况正常。病前性格：内向，不善交际，小心眼。患者认为自己没有病，对疾病没有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剪去单角的矩形 6"/>
          <p:cNvSpPr/>
          <p:nvPr/>
        </p:nvSpPr>
        <p:spPr>
          <a:xfrm>
            <a:off x="515880" y="5484960"/>
            <a:ext cx="8001000" cy="8967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如何与患者进行沟通并进行风险评估？提出患者存在的护理问题及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列举与精神障碍患者沟通交流的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护理记录的内容、书写要求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护患沟通的重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风险评估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精神障碍患者的安全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攻击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伤、自杀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走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1233360" y="3497400"/>
            <a:ext cx="3384720" cy="288432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" descr=""/>
          <p:cNvPicPr/>
          <p:nvPr/>
        </p:nvPicPr>
        <p:blipFill>
          <a:blip r:embed="rId2"/>
          <a:stretch/>
        </p:blipFill>
        <p:spPr>
          <a:xfrm>
            <a:off x="4616280" y="1700280"/>
            <a:ext cx="405612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000" y="1341360"/>
            <a:ext cx="92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（自伤或伤人、毁物）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思维感知改变（幻觉、妄想）与感知障碍、思维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合作、有出走行为的危险 与自知力丧失，不安心住院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自杀的危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针对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眠型态紊乱  与患者感知觉改变、注意力不集中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在护理实践中应用沟通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评估精神障碍患者的风险及病情观察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分析不同精神疾病患者沟通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对比开放式管理与封闭式管理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沟通技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沟通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沟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mmunicat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为达到一定目的，将信息、思想和情感传送给对方，并期望得到对方做出相应反应效果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患沟通的重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有助于提高护理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患者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护士的职业成就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良好护患沟通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1341000"/>
            <a:ext cx="7872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、熟悉患者的基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良好的第一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尊重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容与接纳的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性关怀与一致性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或自我了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708360" y="1700280"/>
            <a:ext cx="482436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96" y="4913"/>
                </a:moveTo>
                <a:lnTo>
                  <a:pt x="-341" y="544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64000" y="1268280"/>
            <a:ext cx="518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对患者的尊重是交谈的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向患者进行自我介绍，告知沟通交流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尊重患者的隐私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与患者有效沟通可达到两个目的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一是收集资料，二是给予患者心理支持或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3652920" y="1800360"/>
            <a:ext cx="535788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6" y="8262"/>
                </a:moveTo>
                <a:lnTo>
                  <a:pt x="-386" y="5041"/>
                </a:lnTo>
              </a:path>
              <a:path w="21600" h="21600">
                <a:moveTo>
                  <a:pt x="-386" y="0"/>
                </a:moveTo>
                <a:lnTo>
                  <a:pt x="-3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564000" y="1268280"/>
            <a:ext cx="540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提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沉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阐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共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非语言交流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与不同精神症状患者沟通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5075280" y="3003480"/>
            <a:ext cx="3889440" cy="22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52:52Z</dcterms:modified>
  <cp:revision>1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